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229-A96E-49B3-B7E1-654B68D4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2E8-56EB-4FE6-AFF2-CEBEA836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16D-ACC4-4364-829F-9D62DFD5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C87-4397-464F-AECA-2ED870E8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5B0F-C3FD-4033-A3ED-1629E40D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35B0-D225-4036-9856-324A5142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243B-91F0-47BF-A7B1-813265D1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0585-EDC0-4A09-8C47-C813B8B1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70F1-4308-4A3E-97C0-051919C9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71E9-3FEE-4BCC-A0F6-507B8E5F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73A9-90B0-4EC6-865B-13762868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CD1-254E-4C97-8C6F-84DC66B0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C928-C5F2-4222-85E4-6CDBF492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D052-FBD3-452B-B09B-4C45D7B8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63E4-3C89-4B96-8247-7318E53B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32AE-D4C8-4CFF-AD41-7EC6D9D6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2EA6-8565-4A9B-B28E-36554D45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4EC-D23E-4034-A8E1-F4073D20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289-2C83-4FC8-BC63-B411417E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D08-ACA2-433A-9F2C-FAFEA431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4EC-6BDF-4D95-B4CB-9344B6D5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69A-6914-4956-8CBF-5E354C48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81EA-05D1-4616-B95E-C38C0E75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E9F3-AD38-4C54-81D1-12AF59CF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7513-7FDF-48CD-990D-948C02482B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4E17-0901-4B87-972A-FFFB7BBB0C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entury Gothic"/>
              </a:rPr>
              <a:t>After-School Programs and its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Century Gothic"/>
              </a:rPr>
              <a:t>Effects on Academic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520" y="3429000"/>
            <a:ext cx="3504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ff"/>
                </a:solidFill>
                <a:latin typeface="Arial"/>
              </a:rPr>
              <a:t>Jennie Kw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ff"/>
                </a:solidFill>
                <a:latin typeface="Arial"/>
              </a:rPr>
              <a:t>Ed 702.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ff"/>
                </a:solidFill>
                <a:latin typeface="Arial"/>
              </a:rPr>
              <a:t>Fal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114156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1143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entury Gothic"/>
              </a:rPr>
              <a:t>Table of Cont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man Old Style"/>
              </a:rPr>
              <a:t>Statement of the Probl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man Old Style"/>
              </a:rPr>
              <a:t>Review of Related Litera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man Old Style"/>
              </a:rPr>
              <a:t>Statement of Hypothe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5257800" cy="27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Century Gothic"/>
              </a:rPr>
              <a:t>Statement of the Probl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an increase number of parents entering the work force, there is a great need to place children in after-school programs that enrich their academic and social development. After-school programs can focus on academics or recreational. However, it is not clear which after-school program promotes academic achievement. This study will focus on the following question: Which type of after-school program is beneficial to students’ academic achiev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entury Gothic"/>
              </a:rPr>
              <a:t>Review of Related Literat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rticipation in after-school programs are associated with higher grades and test scores, esp. in low-income students. (Posner &amp; Lowe, 1994; Pierce, Hamm, &amp; Vandell, 1999; Miller, 2001; Viadero,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rticipation in after-school programs gave students greater confidence in their academic abilities and provides an opportunity to develop positive, school-related, adult attachments. (Beck &amp; Halpern, 1992; Posner &amp; Lowe, 1994; Cosden, Morrison, Alabanese, &amp; Macias, 2001; Halpern, 1999; Pierce, Hamm, &amp; Vandell, 1999; Miller,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entury Gothic"/>
              </a:rPr>
              <a:t>Review of Related Literat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esearch concludes the following regarding after-school programs: youth benefit from consistent participation in quality after-school programs, after-school programs can increase engagement in learning, can also increase educational equity (which provides disadvantaged youth opportunities and experiences that are available to middle and upper class students), and after-school programs build key skills (teamwork, problem solving, communication) necessary for success in today's world. (Miller, 200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7400" y="3962520"/>
            <a:ext cx="5105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entury Gothic"/>
              </a:rPr>
              <a:t>Review of Related Literat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owever, after-school programs can interfere with a child’s commitment to their family and community. It can also reduce parental involvement in their child’s academic process. (Cosden, Morrison, Alabanese, &amp; Macias, 2001; Cosden, Morrison, Gutierrez, &amp; Brown,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study by Vandell &amp; Corasaniti reported middle class children who attended after-school had poorer grades and test scores and were more likely to be rejected by their classmates. (Vandell &amp;Corasaniti, 1988 &amp; 199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entury Gothic"/>
              </a:rPr>
              <a:t>Review of Related Literat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fter-school programs can restrict their opportunity to participate in enrichment activities like scouts, music lessons, organized sports that are available to middle-class children. (Posner &amp; Lowe, 199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mmon challenges facing after-school programs: facilities, staffing, and financing. (Halpern, 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ore research is needed in order to find out whether recreational after-school programs benefit students’ academic performanc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4249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entury Gothic"/>
              </a:rPr>
              <a:t>Statement of Hypothes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comparing academic and recreational after-school programs, 3rd, 4th, and 5th graders attending an academic after-school program will yield better academic results than those attending a recreational after-school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38098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6:31:06Z</dcterms:created>
  <dc:creator> Jennie</dc:creator>
  <dc:description/>
  <dc:language>en-US</dc:language>
  <cp:lastModifiedBy> Jennie</cp:lastModifiedBy>
  <dcterms:modified xsi:type="dcterms:W3CDTF">2008-10-21T16:15:44Z</dcterms:modified>
  <cp:revision>12</cp:revision>
  <dc:subject/>
  <dc:title>After-School Programs and its  Effects on Academic Achievement</dc:title>
</cp:coreProperties>
</file>